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6.jpeg" ContentType="image/jpeg"/>
  <Override PartName="/ppt/media/image18.png" ContentType="image/png"/>
  <Override PartName="/ppt/media/image7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FF37-68D1-4987-B10C-F04309ED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796D-81BC-4E99-9804-66A9FFBC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8BB55-8D04-46A3-9C56-714854BD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E62A1-B1C6-43CD-BB7B-4DCF90C2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47DE4-4A0E-497A-84AD-0491F60C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B5366-29CB-4C05-B8F4-3BC4FBAA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4EBEF-E495-4D03-BDEC-EE3D5B8F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672B9-237B-449A-8ED0-9F241125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C37EB-C81A-4C7F-B1BC-2FF11424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0CB44-2515-49C9-9518-7930C60B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B4A4A-D27E-404B-8216-920D4D6B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1CC30-C871-4A14-B76B-92691FE1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6518-8EB1-44CE-B5EB-2179F89B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615BB-F5AB-4B1F-BADF-19D7ED44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B2152-900A-47B0-B7A3-B233E86D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056F6A-6916-424E-A8F1-2B1D0041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DA3BA-B783-4F19-9898-B7A4A356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BCA6D-BB87-499F-8A51-910327FE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10DBA-83BE-40E8-8568-71895BBA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291A7-CBC5-45ED-B86D-9D3F5897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F11F6-B372-4BC1-925C-651DD9B1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265D9-65CC-4A45-9EB2-464A790E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A96C3-498C-4AF9-B3B3-5CD1E163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62FA-3613-476E-8F18-BD01C535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3CA22-CBD2-475E-ABD3-C94011E4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8B35B-E61A-4FB8-952E-3A21A1D2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2B52E-A5C7-4CF2-ACF2-CB65C4E0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09244-D066-4505-AF8D-523B1A65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D35E7-C88B-46BA-A742-8C093D4B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2D93D-15E0-4C9E-8D2B-3C364A90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B4D98-C371-451F-AE35-981B3D80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22497-8947-4E71-9ADC-2C510B2E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F380F-7874-403B-883D-6F9CA03D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9472D-38C2-4FB6-BF72-CF6A1877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14ED-E03C-415F-9C5A-B72A39B0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EBC4E-A616-4D80-B57F-6271BC43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BEDC9-6365-4600-B059-83E455B4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84CCA-0599-4169-AB2B-B9C2B540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4E8CE-FB98-4D51-A2B5-D2DDD4C6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645A6-7892-4CED-BC1A-DB8E9D1A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2298C-331F-40B6-A4C6-B8C80D7C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6B83D-5E29-4E20-8CE1-B5A6796B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F41C4-C42F-401D-9EE1-A7502144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066C3-A0C1-4D0D-91A8-2825FD98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AB536-94FD-4FE2-8B4A-FFFDFC76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08A8-8301-4B8F-A58F-C5F2D63E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E07D6C-C41B-488C-BBCE-3CCB9146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D2229-6521-4054-82F6-FCFB5DAF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D44988-4EA5-46F4-92C2-CDD67920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CC245-CB04-48AB-8516-CD34C419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ABDA6-622E-4AA6-8111-1A5C4FA6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A84DB3-1504-4451-9028-88F3D3B8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5A91BF-D376-406E-A873-4F1D613F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73AB85-B9EA-4FCC-8262-442CD6C6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C5152D-00C0-4FE6-B955-420F1AF1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E1BCA-A3AE-4CF1-A9F9-045576B6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F60B-8E12-42C4-ACBC-3DD7148E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33955-211E-426A-AE2B-39DE55F3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0B126-7040-42E7-A2E8-B6E0BD05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1BD4AA-FA29-4023-AACE-6D8D5FBB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4F514-289E-4274-A4F1-F58985CB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EDDF8-F84A-47CF-951C-483CE99A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E2442-DE31-4FE6-9B51-2B793B64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554B31-E347-4D91-A68A-8CA37A48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0F4AD-69C4-4FFB-ADE7-5D10C771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11300A-4BB2-4B84-8813-C43FCDAF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D3A17D-F4B8-4657-8B66-184595E2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CFAB-985E-4F64-8E66-06D2777B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716027-3EA7-4159-B18B-A149B8B2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595F4F-C027-4AD2-A7A5-61AE5157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AF789B-B537-4E13-9539-C6C85F20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FD1573-F2FC-48FD-ADA2-BC25958E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74A590-4926-4CB7-ABE0-A56336F4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7FF9CE-D914-4024-B45B-98A1A8CB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6530A7-8E34-4894-BBA0-CB14113F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6A4F50-8B43-4948-A2E1-D9337E30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016F5E-6544-497C-B45C-3F4D9A0C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E15B13-4816-43EE-B2A7-258483FD2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004C-FD54-4737-9A28-D1E82EFA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55564E-78DB-46D6-8CB3-29C7F194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910E62-8191-4D58-BCB8-BB402978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F752C4-B1EC-4B22-933E-8DDFFFAB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936F9D-74A0-4EA0-8FFB-1D221D56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E0E6CF-297E-45D7-AA81-4A6A4079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5A039F-58BB-4B28-BAE5-B81E1B25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7B59C8-F4FD-42A8-86EA-61E0AE76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549062-F4D1-4F01-8740-24C1EA80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5BDD8A-01B9-4DB6-AFFE-E66E62A1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9968D8-07E9-40F3-A1E9-44D9EB16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4E0D-790B-403C-8749-5BE1B4FB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B741AB-6DD7-4CF2-933F-2614E061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D22AEE-BFC8-469B-A567-30E27F64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B0DD69-9198-413B-8DEF-83830D7D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9527B4-24DB-40D5-A245-C158C10D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2630A8-BE00-4C68-AB3C-42A53CA2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3CA037-7FE2-4482-963F-A57469C0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85BFF3-A53E-4725-BB5B-D84A9AD9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0A86DD-7A6F-40A8-91E9-D9AED71A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688ADE-6C48-4237-9F2D-8743FC1E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956F89-EEED-4E52-809A-1734B3BB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6D3A-D84B-4961-B631-93C32308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C64B2F-6EA1-44F0-8C62-14E63FF4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BF38F0-4390-4887-B044-3AD73635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3125ED-45D4-4FC1-BD94-F12F6677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AF1D00-6385-4718-83DB-17E469B9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E96955-ECC3-4F56-905A-B99ED9D8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117607-80A1-4D61-BA81-3A2461B9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D57E10-D1EB-4254-B713-A6486D85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64B077-599C-4104-8420-4ACC799C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BC94F9-F47B-4AED-AAA5-33C59159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DDA9AE-D79A-45CF-B489-F8459C48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B7A2-9557-4951-9C63-95A8B847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4BA8-E019-419C-8D6B-49B3BBFA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ACF9E3-8971-4518-B822-EB2F5E6A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8B04F8-69D6-4FA9-9CE4-84291539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BEE562-6FFF-4A11-AFCC-1F5D2FC6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10E9D1-DE6F-43CC-92E4-094ED1A9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D67DB3-5663-4434-BC00-5FF797F2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541CF1-7506-4D69-9B23-9DEA28CEB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DF011D-BEF1-464A-97DA-EDE92243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52826A-AAD5-421F-8267-415CC7A6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E9C4F0-0F99-49FA-A9B4-3F4037A3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CCC23A-A512-4C74-811F-4803DB8B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822C-67BD-4D91-A3ED-4DF1CE43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7849E8-A048-462C-9558-9C87B0EA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205D9C-6198-45D9-82E8-95AF1100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337C36-AAEA-472B-ADE7-33CC0EC8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5C49CF-C195-4E15-8469-20124D30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D6D4BA-EEC5-4226-A434-D54C002F7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C61D0F-4E68-4A96-90FC-D8D6C51D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FAA165-5F5C-46C4-942D-2BF31324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596765-E32E-4963-91D1-662F6FCB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501CE4-5690-4CE8-8CE1-A4B19DE9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64A75C-D5F1-414D-8076-41BD2882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C33A-709F-4F2E-BC8F-3DA944CC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A89787-1858-4659-9323-19A37825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2C455A-1002-43DB-87D8-B6DC8F61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BBEDA0-0CD6-4529-B976-CB7CACA5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775F27-09B2-438C-B8A0-10859CFA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F080AB-68BB-47FC-B911-ABA537B3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FCC666-AA92-437E-839D-6E99B239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4DC780-BDC8-4CDE-AEA1-AEAD5C7A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7B28C7-EAB3-4FF0-9DAC-1D2C6E915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293468-F37F-4E92-A47A-FD51015C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499486-D790-4608-9969-E9D9F910C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2F6F-B25A-4AF5-A919-9C9A5664A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E74677-6A9B-42CE-B3D6-C0FB2B53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50A5B2-F630-42F8-96E6-B811D2FF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38E15C-AE17-4F3F-A659-1CA14E23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3D3BDB-E661-4587-B1E9-847DE29A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790CA4-A149-41D6-9D46-9977C42D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1B1ADD-A686-4178-A022-EEFAFB6E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25E9A6-8E5B-4271-9F19-DDEBD44A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AFFE01-B671-459C-A636-DCAA7D99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FE9FAD-EFD2-4F31-8CF9-535F8CA1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13105B-E894-4159-AA54-CB86C76B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0C92-324D-4329-BCE3-F8C7BCE17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1796AF-DF95-469C-B266-37DF3F7D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C05096-DE2B-4295-919B-71F34D57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69CAD0-01CE-429D-BA3C-05D79458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E3B398-40EA-4344-A70A-514D58F3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6A6C20-D640-4EF2-AAC3-7963DBE5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EB9ED6-D748-4FCA-8553-B4F810E7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273C51-2153-445E-8A43-C05324FC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093408-BA13-438C-95F8-8C5B5D2B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684A8F-97D4-4F23-9B4A-6F91C498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E45490-2E40-407E-BF8C-5ECE9579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3B5FC-2E96-4B43-BF95-085295AF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329312-D607-4FDB-8F43-095A0153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2D96FA-6368-4981-83F3-B12430245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D93509-5C60-452E-8A9E-E1DDAF39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791118-DD54-476F-A368-42A401D6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91FF74-4864-4C7F-BC4B-A19C779A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A22129-F698-487C-B906-C45F5E33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57F6EE-FF14-4665-A7B8-17E6B463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CC1034-63EE-4CB1-B7CF-78098DA4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5AEC32-91EE-49A8-A262-C74344BB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E85CF3-2DBE-4F9C-82C1-AF8B7D36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08371-A5D8-4DD3-8499-1FD7D1C6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7842C9-47A5-4AB9-90EC-159474C8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72414F-9995-4FB3-B7A6-9550E17F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2A2B46-7036-4742-A941-91A8CCB4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571A9C-B75C-4D92-A94E-FA11C67F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DDB2F9-3C4F-417C-B27D-CFE7DE56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B68C2-1A7E-41DC-A6F5-12EDA76F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85C74-56EC-4949-9AAA-9E89A305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BF2D2-1435-4341-BDE8-2FA10635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00FE-A023-4D11-8EEF-7A67B23C9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A3F6C-6ED4-4347-A736-7CF92008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E15A5-F274-4ABF-850F-AFC0BCE6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3B5E5-ADCD-4E56-9633-04E1B478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F3A39-066E-487A-A744-C5ACCD8D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E92D2-8370-434C-807A-10E90EFE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DFD52-AF24-407D-B840-B10C37E2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92D6D-A217-4CC2-BF1A-C986A530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B094D-45F1-4755-958F-920220BE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37617-FA1B-4004-8EA1-623BB2A2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B7682-46BA-4BF0-AD26-2C661FC2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E962-2B9D-4487-9AD3-D5847759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604B2-B0D7-4E77-809E-79CCC046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6B907-1933-436E-87FB-2DC67712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E2DB4-17CA-4FA3-8C74-155E6F2E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33F5E-6E80-444B-9FB8-34708A8B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FBC8C-61D8-4817-AA7D-A01FB575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3E436-36DE-4B51-A36A-9A937BC1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E5DFE-3A46-4263-B6B3-B148BFA4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A20D4-9376-4D01-866C-EAD24024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6DB53-66A2-42DD-A35B-3D249168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00BA4-5B90-4BBF-8CBE-D2C6AEC5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4C13-9901-428B-B9A6-E9435908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F4F6C-50E7-4AA4-BB8C-187D8671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A38B0-0BFA-47DB-9042-74CCF09B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362A7-823B-44AC-B42C-0C4FDB5E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43C2E-5515-4EB1-A557-FB1334CC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7DEAC-01F4-4AE1-B845-AB482332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BF2F1-CD07-45E6-B531-3A8821BD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92BE5-961D-4D3A-926C-C5F35E1F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BF29ED-E2F1-4199-8D38-8A933954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1AD15-1F4B-4525-816C-53F96B06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53188-AD72-4113-9AE9-79AB66CAF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8AD2-7BE6-4CA3-AD60-1F7A38735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30198-D6B0-4775-B372-DA98C519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805BD-8A28-4E84-A1C0-976A5757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D9092-7B7F-49FC-9C35-8B3622AD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66B17-B2D0-4866-8E05-5EC1FC6F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BEDCF-8912-4995-8925-71628D32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87F9D-2C5D-45B2-A133-4431C0AD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68AD4-8CE1-4BB8-A669-5B7BCAF7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1B2BB-F76C-4998-821A-E024A0BF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060BA-6A47-43E6-ACBF-30BD3C37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F17CE-2983-4D6C-BD2E-5A6E6B26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EC1A-6760-444B-A769-62F0E206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5608A-0562-446F-B924-1F855D75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B5C74-CB3E-4741-B8CE-01EF33F9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CCD92-D893-4D9D-827E-FCF7B6C4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C7330-8596-4677-8624-CF58B693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97AFA-EEA6-46BD-BC76-5AE74875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3AE99-7488-4D69-8734-8FD6B655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4E8F2-1142-42C7-A5AA-1556311B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DF3FF-C67A-4D0F-B262-867F5243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B2BE5-8452-42B7-B025-432A55282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48D05-4D1B-48F6-BBBB-A0105617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D978-95D9-4075-87A5-94A63DB5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AD8AF-8C0F-4875-AA49-90CCB716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DDDCA-83AF-42D0-8A08-0B354A10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3EAA0-77AC-4C8F-A30E-394C5F9F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BF88E-C5B1-49EF-99E0-657845D08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5125A-9F06-4B9D-BF14-42859A0B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4EAC4-ED81-4B90-89E4-6E3D4B87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C948C-BF90-4A83-B745-81E9898E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46320-7691-4F50-925E-E246C49A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9A4F8-1832-440B-8852-974144C5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B6FD4-29D0-4E4F-9FFB-62DE7308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EA6D-C161-4534-BAE6-F66FF76A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122EA-CF6E-4A5A-8B06-1DD6D6C5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9B7DF-09CF-4575-8B72-C82926A3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5FA3C-1E90-4A9E-940F-F13A23A9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DB18D-C561-4403-89C6-91CCA2E3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914040" y="43488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BEC66-0FC3-4E08-8640-015E0F8F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79720" y="243828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91404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779720" y="43488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4FC4B-FE3F-4473-8E6D-1BC83427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46464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15600" y="243828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9140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46464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15600" y="43488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95D55-1AA6-4F92-A81A-3797A5BD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9C565-3F78-468D-9BD2-856CE6CC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F34B1-41AC-4C0E-8105-0FFF9AC4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35A89-8B0E-4BE5-B19F-3503C912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0000"/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D5AD-C591-409E-9579-F64575B8F7D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7CFE-3342-4C5B-BB77-F5096251A3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DA7C-13C3-4531-9FD3-28312FE57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1B4E-D076-4335-B698-4885DFC82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C5F3-EE39-47F5-BD8B-E7369B1ED50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Verdana"/>
              </a:rPr>
              <a:t>Click to edit the title text format</a:t>
            </a:r>
            <a:endParaRPr b="0" lang="en-US" sz="4800" spc="-1" strike="noStrike">
              <a:solidFill>
                <a:srgbClr val="ffff6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3366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8854-0425-4B79-B5C4-9348E16C5B7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Monotype Sort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urlz MT"/>
              </a:rPr>
              <a:t>Click to edit the title text format</a:t>
            </a:r>
            <a:endParaRPr b="0" lang="en-US" sz="54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040" y="243828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48840" indent="-34884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758160" indent="-3085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158120" indent="-29880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507320" indent="-24840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1855080" indent="-2455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1855080" indent="-2455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1855080" indent="-245520">
              <a:spcBef>
                <a:spcPts val="7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E20D-9C86-4906-A82C-3B5D69D3C0D7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15242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urlz MT"/>
              </a:rPr>
              <a:t>Click to edit the title text format</a:t>
            </a:r>
            <a:endParaRPr b="0" lang="en-US" sz="6000" spc="-1" strike="noStrike">
              <a:solidFill>
                <a:srgbClr val="ffff00"/>
              </a:solidFill>
              <a:latin typeface="Curlz M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4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ftr" idx="47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BBA2-E83B-4F1D-86E4-EB167D345722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AF37-6B13-4EFC-8BF1-804AF6F5B26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92E3-ECFB-42D2-86C6-99D736E1DB3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951F-AC83-47D9-B5E0-64A9D49E98AA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4ADD-6551-4F87-B344-92F33EF6612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Monotype Sorts" charset="2"/>
              <a:buChar char="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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FE62-3AE7-4152-824B-192DE9F71B6C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dt" idx="6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40DB-EACC-462C-A583-31584294FE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dt" idx="6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sldNum" idx="6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43FB-C316-4630-86F2-23FA300A00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DA8C1-B06A-49AD-83F9-894D1BEC4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81280" y="14479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43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643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40EF-305A-4B77-AADD-8E0633D85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2286000" y="1981080"/>
            <a:ext cx="6400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6E36-5B92-4A26-BDD5-ACF6E5C1CE63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666520" y="2285640"/>
            <a:ext cx="5791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9826-939E-4AE4-A25D-1043F11E75C2}" type="slidenum">
              <a:rPr b="0" lang="en-US" sz="1400" spc="-1" strike="noStrike">
                <a:solidFill>
                  <a:srgbClr val="000000"/>
                </a:solidFill>
                <a:latin typeface="Verdana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8000"/>
              </a:buClr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902D-D35F-43DD-AD64-593B3A53BB3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057400" y="2438280"/>
            <a:ext cx="64008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CE69-94CB-4401-B198-D4732D1F287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6784-3D2F-4B26-9B02-C13D2F3832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video" Target="file:///tmp/home/.config/libreoffice/4/user/gallery/Recorded%20Sound" TargetMode="External"/><Relationship Id="rId9" Type="http://schemas.microsoft.com/office/2007/relationships/media" Target="file:///tmp/home/.config/libreoffice/4/user/gallery/Recorded%20Sound" TargetMode="External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9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4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4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9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9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1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7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video" Target="file:///tmp/home/.config/libreoffice/4/user/gallery/Embedded%20Sound%2011" TargetMode="External"/><Relationship Id="rId3" Type="http://schemas.microsoft.com/office/2007/relationships/media" Target="file:///tmp/home/.config/libreoffice/4/user/gallery/Embedded%20Sound%2011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6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2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2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 txBox="1"/>
          <p:nvPr/>
        </p:nvSpPr>
        <p:spPr>
          <a:xfrm>
            <a:off x="228600" y="0"/>
            <a:ext cx="3886200" cy="25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10031"/>
                    </a:gs>
                    <a:gs pos="50000">
                      <a:srgbClr val="ff00ff"/>
                    </a:gs>
                    <a:gs pos="100000">
                      <a:srgbClr val="310031"/>
                    </a:gs>
                  </a:gsLst>
                  <a:lin ang="5400000"/>
                </a:gradFill>
                <a:latin typeface="Arial Black"/>
              </a:rPr>
              <a:t>The Ga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10031"/>
                  </a:gs>
                  <a:gs pos="50000">
                    <a:srgbClr val="ff00ff"/>
                  </a:gs>
                  <a:gs pos="100000">
                    <a:srgbClr val="310031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1981080" y="2057400"/>
            <a:ext cx="19814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0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3c003c"/>
                    </a:gs>
                    <a:gs pos="100000">
                      <a:srgbClr val="ff00ff"/>
                    </a:gs>
                  </a:gsLst>
                  <a:lin ang="5400000"/>
                </a:gradFill>
                <a:latin typeface="Arial Black"/>
              </a:rPr>
              <a:t>Of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3c003c"/>
                  </a:gs>
                  <a:gs pos="100000">
                    <a:srgbClr val="ff00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898" name=""/>
          <p:cNvSpPr txBox="1"/>
          <p:nvPr/>
        </p:nvSpPr>
        <p:spPr>
          <a:xfrm rot="1267800">
            <a:off x="996480" y="1282680"/>
            <a:ext cx="6967800" cy="690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3c003c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MEANINGFUL QUOT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3c003c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0" y="5334120"/>
            <a:ext cx="8915400" cy="1295280"/>
          </a:xfrm>
          <a:prstGeom prst="line">
            <a:avLst/>
          </a:prstGeom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800600" y="228600"/>
            <a:ext cx="4114800" cy="22096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5257800" y="533520"/>
            <a:ext cx="3200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afff7"/>
                </a:solidFill>
                <a:latin typeface="Arial"/>
              </a:rPr>
              <a:t>“</a:t>
            </a:r>
            <a:r>
              <a:rPr b="0" lang="es-ES_tradnl" sz="1800" spc="-1" strike="noStrike">
                <a:solidFill>
                  <a:srgbClr val="fafff7"/>
                </a:solidFill>
                <a:latin typeface="Arial"/>
              </a:rPr>
              <a:t>Great Expectations is the most perfectly constructed and perfectly written of all Dicken’s Works” ~ Edgar H. Joh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838080" y="762120"/>
            <a:ext cx="769644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PWAH PWAH PWAH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SPECIAL JOURNAL QUESTION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NUMBER 2!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8" name="" descr="">
            <a:hlinkClick r:id="" action="ppaction://media"/>
          </p:cNvPr>
          <p:cNvPicPr/>
          <p:nvPr>
            <a:vide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6934320" y="495288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91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91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3621" fill="hold"/>
                                        <p:tgtEl>
                                          <p:spTgt spid="9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1143000" y="914400"/>
            <a:ext cx="617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h! Had I given Joe no reason to doubt my constancy, and to think that in prosperity I should grow cold and cast him off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685800" y="3200400"/>
            <a:ext cx="78487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What theme could this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quote about how Pip feel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towards Joe be applied?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995760" y="990720"/>
            <a:ext cx="735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“‘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Halloa! Here’s a church!’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762120" y="3048120"/>
            <a:ext cx="74674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5929" dir="2028877" blurRad="0" rotWithShape="0">
                    <a:srgbClr val="9999ff"/>
                  </a:outerShdw>
                </a:effectLst>
                <a:latin typeface="Arial Black"/>
              </a:rPr>
              <a:t>Who does Mr. Wemmick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5929" dir="202887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5929" dir="2028877" blurRad="0" rotWithShape="0">
                    <a:srgbClr val="9999ff"/>
                  </a:outerShdw>
                </a:effectLst>
                <a:latin typeface="Arial Black"/>
              </a:rPr>
              <a:t>get married to?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5929" dir="202887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 txBox="1"/>
          <p:nvPr/>
        </p:nvSpPr>
        <p:spPr>
          <a:xfrm>
            <a:off x="1143000" y="1600200"/>
            <a:ext cx="6858000" cy="32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5929" dir="2028877" blurRad="0" rotWithShape="0">
                    <a:srgbClr val="9999ff"/>
                  </a:outerShdw>
                </a:effectLst>
                <a:latin typeface="Arial Black"/>
              </a:rPr>
              <a:t>Miss Skiffin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5929" dir="2028877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990720" y="762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 wishing to intrude I have departured fur you are well again dear Pip and will do better without- Jo. P.S. Ever the best of frien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914400" y="4114800"/>
            <a:ext cx="71629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Arial Black"/>
              </a:rPr>
              <a:t>How does Pip reac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Arial Black"/>
              </a:rPr>
              <a:t>to the letter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 txBox="1"/>
          <p:nvPr/>
        </p:nvSpPr>
        <p:spPr>
          <a:xfrm>
            <a:off x="1143000" y="990720"/>
            <a:ext cx="74674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Arial Black"/>
              </a:rPr>
              <a:t>Pip decides to go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Arial Black"/>
              </a:rPr>
              <a:t>home to Bidd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1295280" y="350532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Who is Pip talking to?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Explain his sickness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8" name=""/>
          <p:cNvSpPr/>
          <p:nvPr/>
        </p:nvSpPr>
        <p:spPr>
          <a:xfrm>
            <a:off x="685800" y="7621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see my state,’ said I. ‘I would come with you if I could; but indeed I am quite unable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 txBox="1"/>
          <p:nvPr/>
        </p:nvSpPr>
        <p:spPr>
          <a:xfrm>
            <a:off x="1143000" y="838080"/>
            <a:ext cx="6629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The debt collector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3962520" y="2438280"/>
            <a:ext cx="990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an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685800" y="3505320"/>
            <a:ext cx="80010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he was dilusional an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layed on the couch all day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 txBox="1"/>
          <p:nvPr/>
        </p:nvSpPr>
        <p:spPr>
          <a:xfrm>
            <a:off x="1219320" y="3581280"/>
            <a:ext cx="74674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Why did Pip feel this way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933" name=""/>
          <p:cNvSpPr/>
          <p:nvPr/>
        </p:nvSpPr>
        <p:spPr>
          <a:xfrm>
            <a:off x="1600200" y="990720"/>
            <a:ext cx="661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‘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feel thankful that I have been ill, Joe,’ I sai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1447920" y="1295280"/>
            <a:ext cx="701028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He's glad that he coul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regain a relationshi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with Joe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 txBox="1"/>
          <p:nvPr/>
        </p:nvSpPr>
        <p:spPr>
          <a:xfrm>
            <a:off x="380880" y="3962520"/>
            <a:ext cx="56390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77491f"/>
                </a:solid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Who said this quote?</a:t>
            </a:r>
            <a:endParaRPr b="0" lang="en-US" sz="2400" spc="1" strike="noStrike">
              <a:ln w="0">
                <a:noFill/>
              </a:ln>
              <a:solidFill>
                <a:srgbClr val="77491f"/>
              </a:solid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3" name=""/>
          <p:cNvSpPr/>
          <p:nvPr/>
        </p:nvSpPr>
        <p:spPr>
          <a:xfrm>
            <a:off x="457200" y="685800"/>
            <a:ext cx="738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shall lose a fine opportunity if I put off going to Cairo and I am very much afraid I must go…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 txBox="1"/>
          <p:nvPr/>
        </p:nvSpPr>
        <p:spPr>
          <a:xfrm>
            <a:off x="2438280" y="3024360"/>
            <a:ext cx="4724640" cy="34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 txBox="1"/>
          <p:nvPr/>
        </p:nvSpPr>
        <p:spPr>
          <a:xfrm>
            <a:off x="762120" y="1066680"/>
            <a:ext cx="56386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c85f00"/>
                </a:solid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Herbert!</a:t>
            </a:r>
            <a:endParaRPr b="0" lang="en-US" sz="2400" spc="1" strike="noStrike">
              <a:ln w="0">
                <a:noFill/>
              </a:ln>
              <a:solidFill>
                <a:srgbClr val="c85f00"/>
              </a:solid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0" y="60948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 Lord, be merciful to him a sinner” -Pi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 rot="21028800">
            <a:off x="2820600" y="3998520"/>
            <a:ext cx="563868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o is this quote about?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2"/>
          <a:stretch/>
        </p:blipFill>
        <p:spPr>
          <a:xfrm>
            <a:off x="8712360" y="6426360"/>
            <a:ext cx="406080" cy="40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9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 txBox="1"/>
          <p:nvPr/>
        </p:nvSpPr>
        <p:spPr>
          <a:xfrm>
            <a:off x="2133720" y="1676520"/>
            <a:ext cx="5165640" cy="32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gwitch!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09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712360" y="6426360"/>
            <a:ext cx="406080" cy="40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9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 txBox="1"/>
          <p:nvPr/>
        </p:nvSpPr>
        <p:spPr>
          <a:xfrm>
            <a:off x="0" y="1295280"/>
            <a:ext cx="91440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afff7"/>
                    </a:gs>
                    <a:gs pos="50000">
                      <a:srgbClr val="b42036"/>
                    </a:gs>
                    <a:gs pos="100000">
                      <a:srgbClr val="fafff7"/>
                    </a:gs>
                  </a:gsLst>
                  <a:lin ang="81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PWAH PWAH PWAH!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afff7"/>
                  </a:gs>
                  <a:gs pos="50000">
                    <a:srgbClr val="b42036"/>
                  </a:gs>
                  <a:gs pos="100000">
                    <a:srgbClr val="fafff7"/>
                  </a:gs>
                </a:gsLst>
                <a:lin ang="81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afff7"/>
                    </a:gs>
                    <a:gs pos="50000">
                      <a:srgbClr val="b42036"/>
                    </a:gs>
                    <a:gs pos="100000">
                      <a:srgbClr val="fafff7"/>
                    </a:gs>
                  </a:gsLst>
                  <a:lin ang="81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SPECIAL JOURNA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afff7"/>
                  </a:gs>
                  <a:gs pos="50000">
                    <a:srgbClr val="b42036"/>
                  </a:gs>
                  <a:gs pos="100000">
                    <a:srgbClr val="fafff7"/>
                  </a:gs>
                </a:gsLst>
                <a:lin ang="81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afff7"/>
                    </a:gs>
                    <a:gs pos="50000">
                      <a:srgbClr val="b42036"/>
                    </a:gs>
                    <a:gs pos="100000">
                      <a:srgbClr val="fafff7"/>
                    </a:gs>
                  </a:gsLst>
                  <a:lin ang="81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Impact"/>
              </a:rPr>
              <a:t>QUESTION NUMBER 1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afff7"/>
                  </a:gs>
                  <a:gs pos="50000">
                    <a:srgbClr val="b42036"/>
                  </a:gs>
                  <a:gs pos="100000">
                    <a:srgbClr val="fafff7"/>
                  </a:gs>
                </a:gsLst>
                <a:lin ang="81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4191120" y="548640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4747" fill="hold"/>
                                        <p:tgtEl>
                                          <p:spTgt spid="9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990720" y="6094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wouldn’t go so far as to say that, for that’s a deal to say; but she ain’t-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ving, Joe?’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3886200"/>
            <a:ext cx="87631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5929" dir="3371122" blurRad="0" rotWithShape="0">
                    <a:srgbClr val="4d4d4d"/>
                  </a:outerShdw>
                </a:effectLst>
                <a:latin typeface="Arial Black"/>
              </a:rPr>
              <a:t>Why doesn't Joe say Mis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5929" dir="3371122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5929" dir="3371122" blurRad="0" rotWithShape="0">
                    <a:srgbClr val="4d4d4d"/>
                  </a:outerShdw>
                </a:effectLst>
                <a:latin typeface="Arial Black"/>
              </a:rPr>
              <a:t>Havisham is dead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5929" dir="3371122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762120" y="1143000"/>
            <a:ext cx="6705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’ee here, old chap,’ said Joe, bending over me. ‘Ever the best of friends; ain’t us, Pip?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s ashamed to answer him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838080" y="3657600"/>
            <a:ext cx="7848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Why was Pip ashamed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762120" y="1752480"/>
            <a:ext cx="784836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He left Joe to beco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a gentleman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8:20:34Z</dcterms:created>
  <dc:creator>MTSD MTSD</dc:creator>
  <dc:description/>
  <dc:language>en-US</dc:language>
  <cp:lastModifiedBy>EASD EASD</cp:lastModifiedBy>
  <dcterms:modified xsi:type="dcterms:W3CDTF">2009-03-19T00:31:13Z</dcterms:modified>
  <cp:revision>9</cp:revision>
  <dc:subject/>
  <dc:title>PowerPoint Presentation</dc:title>
</cp:coreProperties>
</file>